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10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520-832F-4096-B5E3-47BBB75C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700-852F-4C20-B652-649B82B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7E318-2CDA-4B0B-8F5E-1386497F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47573-381C-4CED-BF47-C7F5F8D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8C3F-1B0D-40BB-B888-3EAA3DA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5E135-F8BE-4AD7-9920-BBFA66A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7732D-CDD6-4DA7-B681-64BA63F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C2E90-43AB-42E1-BBE9-03CF4DB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95705-6AA2-49EA-98BD-DB9BFF9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9948-3416-4458-9FFF-4D07C17D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7A1FE-E935-435C-BCB9-9CD7529C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620E9-2084-468F-B00A-776EFB20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776-DE25-439F-B654-040A24C0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BFD1-D613-4D7A-8D97-DF745D8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0DA53-7631-4337-9046-4EDE1714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88CFF-89E3-4735-8FF3-2973E235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3B713-0B2E-48A2-9F97-EC030AC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CD20F-9978-4ED4-8B36-D979AA93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B22F-9A2A-47F4-8D05-E731F48A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93D64-7CD6-4F46-9FEA-61E0AB3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5AB22-0186-4FDE-9B93-22DDEF6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01ED4-79C7-4534-BB45-C315F2E6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571E1-E4DA-42CD-B940-2AC7286B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934-C4EF-486C-9B11-F15ED8AC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06335-6CF6-414B-9DEC-C4CEC257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4BB13-C867-4EB5-A920-1FF8F41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33F4D-7E1C-4511-9F3A-8A212286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A53A-6D35-4BF7-B64E-6887CEF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E3DC-74B4-42D1-8433-3D72187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1814F-CA2E-42E1-978E-C4C966AC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BA7B3-5989-445A-A5E3-035C61F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DE11A-FCE7-45BA-A4B9-6ED410B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24D50-F908-4BB9-A415-5548649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A70E2-CB76-48F8-BCE7-87459FDA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8E8C-BE30-4167-8AED-FD4D6D4F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46F89-86EF-4F6C-969A-7EB9143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68EA0-10AB-456B-AE49-F6C247FB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5D597-D8D5-44F6-AA95-C991B452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35C21-0E91-43AB-A3C7-2065DDE5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736D3-3D68-4840-8F5E-A670ABF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413F8-205E-4A9A-AA5C-5A1CDA9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53F45-43D1-42A9-92DB-AD6118DF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FEE5D-C846-4C07-8EFE-FBC8518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E1FE8-22A0-4712-88B3-B6ECD4F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9953-929C-489D-847F-DEE2077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4ABE-234B-45E5-80FF-B62F91A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8C7C3-9BEF-4B63-BD57-B21CE3F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5F81-6453-47BF-8174-A17899A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A086F-C943-4567-9834-8FB1868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D0034-B829-467D-B674-3CEFA397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AB622-62D9-403A-95A0-8AE301EE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1F52E-A5F5-417F-A4D9-CEDC5E16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08001-93F9-4D9A-BB65-912C2FF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A74CE-2535-4EE8-BE64-DCFCE533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0BE00-1F60-458F-82CA-DDE42691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FA0B2-59DF-4C56-BD21-43430E1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A8B5-596A-451B-80BA-51991D05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78E4A-94B5-49ED-84E3-B5FD345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C9A3F-BFF7-406C-8460-56A39C2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7FF26-4237-4821-9210-0BD66DF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13F84-8506-4AED-994C-B55C8913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48D20-E951-4022-A902-AAEA51D3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4CFC5-98AB-4E62-A506-49C17C6D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AB88C-83AA-462F-86AD-5F1283D5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8BD9-8393-420A-B947-F256A429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D173C-E8FD-46BE-924B-700B254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58948-B04D-4E24-A77E-20C9457D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0CB-8B72-4EA1-94CF-AE6BF34A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2A533-9112-4D87-8301-FE7FABB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FC6B-01D4-4DA0-9D16-7B5860D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6FA29-E71D-4262-B80F-425DB7D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BF1FC-7D80-4DEF-8226-3EDEE4A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00724-9132-4962-B494-A5877AA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2E6A6-488C-4AD6-8A59-C421482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BC728-DBE3-46CD-A8C0-43641D0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CFCC0-8319-4379-B749-C9560EC3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B98FE-4464-47C5-BBCB-2E4F0EC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5D38F-66ED-457F-AA80-056E86B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372-F4E8-4A25-92C7-A35DC012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66F14-D389-4ACB-8C49-AD9E5743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1B337-7C76-4E11-BCFD-438EE38B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3BD5D-A2C8-4124-A064-BA1D91C5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7DE01-B6AA-4987-A6BE-977FC26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DAB2B-819B-4DCC-8DCC-2461120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87FEC-DB18-4FBA-8A9B-3BA3E9A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B7DA1-A61C-4EC1-9D09-24F6EBC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CEBCE-0600-45A6-9579-370E59D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CDC86-8AF4-4231-9DEC-28591B7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B15F6-ECF9-43E9-B70B-21D00B0C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3EE-9154-4102-943A-678BAB9D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5C978-CAF7-44CB-AC69-CCC00E01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2E94D-DF4D-4A49-8FFD-ACB2CA8D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73832-61A6-4885-876F-06A79670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ACD59-F5B1-4DD8-8BAE-ED458736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D0BCA-1562-4242-BF9A-84D87EB6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C854A-B3E2-4E2F-A962-4EC6FF8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03C96-977D-412F-A9D9-FCB5C95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4439E-9C90-4620-BC25-7BCCCC6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C6905-75A5-497D-B983-782EB72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EF65F-BB82-4F25-8E9C-E686A2C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36E0-F606-4031-BC0D-733B1C34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EB63B-8323-4940-96C5-B5236D41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A1528-C3B2-4645-A5F5-947311C0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BF55E-13F8-4A04-904F-95CFF1A5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72038-09E2-4E65-A1FF-A8EB49F3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146BA-C8D8-47C7-8987-34FCE02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8B396-F870-4064-999A-EA7B30F9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39EDB-5002-4B68-92BC-81EE10E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050C6-443D-4DB8-8203-C07C77A0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F2B1C-EADD-4C7D-8EFC-ED67A4C8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FEEBC-6B86-4F9E-86F4-7B60595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26-FB17-4C63-92E2-F604CD4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29D-4FA9-47D0-8D5D-1F0CC9F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EE2C4-7EEE-4BE1-B76E-6F19F9C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CB206-07C4-414D-8BBA-4C9FCE4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A323F-2C0E-492C-A835-289ECC4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6AECE-4444-495F-AB01-FB1749F7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E6FC3-F010-4931-B986-3016489B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4B0B-19D4-4B61-AB46-839CB12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8F29-4B6C-4EC4-9132-C177EF4E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A44-C130-420A-B1B5-3BD45FD8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484-ACDE-436F-A4AB-6D402366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E301-FBB9-48E1-AF9B-6A45A3C6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E8FC-968E-4883-A9BF-E460C2B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E6B5-6795-4CEE-921A-C76AD287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B4F9-6C74-4808-A595-EE5864BD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1960-F576-4C8C-9B43-D34655C4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FD8-2A0A-476A-A4E7-D298166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02BC-3509-4541-8065-6C4A300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6F15-E1F4-4CB6-8BD6-44A4761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40A9-24A5-4698-88FA-027B45F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90D7-F3B0-47AB-AAB9-FF6DE91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6F74-552E-40AF-B0EE-1ECFC06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9D0B-A2D1-4882-9977-30F2E87B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E27A-F039-408A-95FD-5B485EF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F2D4-D00E-4F2C-95F0-47834055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23ED-2D14-4158-B617-654A56F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882F-22DC-4879-8D4E-12463A47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2AA-18B3-4F8C-9954-803890AE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FB29-133A-48F8-8D86-BB4D2CA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0CA6-D2C8-47DA-8A02-7C78193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168A-337F-4B54-80EE-26DBD50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0AA0-5F29-462C-925B-7FD5838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867C-5AE0-484E-89D4-97974A7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6FCE-3B09-4289-91F7-3914780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0DD6-93AA-49F6-A082-0F07DA2C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9AA4-3EF7-4940-8577-EF828A7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5900-19D4-42D7-A549-803B0320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E98F-1CCA-4820-89AA-AD95C872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8E3-9CFD-4C29-B44E-ADBB1EAF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FA00-E291-4A30-B957-071ED12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13CD-FB78-4534-8473-D7BC56E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C432-E3E8-47C9-913A-F9875D50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E707-6E5A-41B1-9A6C-4CA5B95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7310-110D-4207-9329-BB785A7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0757-318D-47BC-A2C9-10E42E1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A440-CA72-4E79-BE9A-BAF9388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F2BD-C23D-4D11-A96B-3984007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0313-E033-436D-88C8-F170C80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7F43-0719-4B0F-A67A-C4C4F63D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9A7-19AE-4B82-8466-AE29D19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6E3E-657F-4D58-8112-305F32A7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7056-D90D-445B-9328-76D09E97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DD0A-1302-4A62-8F4B-008F026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594E-20AC-4B08-9033-11D6AC2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7B6A-102A-426C-A13F-14BBD3A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267C-0380-43A6-B2B0-FEFA517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9A25-67A3-4561-B6BC-1ABE30A3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DC2A-38A2-48A1-9E69-846472C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E24C-E600-4625-8465-13600EAB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F01B-8353-4408-B96D-F00A1AA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8B7-86DC-4103-BD3D-CB8E1D0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D78F-CD2D-4E69-9F98-19F4BE8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374E-62FB-4DFC-81AB-46365A1C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1B39-5092-4B72-B42A-95513816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01B6-2062-4F2E-9D11-AA37204A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04FA-03CC-45AB-A872-B5439F75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5B16E-A681-4425-818B-0ECB8DD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6F40-6D0F-462D-BDD3-EBE02DD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CC5E-117D-4F22-A159-3C4D15C7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EA2AB-B2A1-46CF-BD4F-C78F31A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EC18-C392-4F53-AFD6-0AC1F2F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622-BAA1-4F82-BA81-CF13E2B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6909-249B-483D-9918-7E23D02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078F-5533-4407-8095-7BFAA9C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65B4-60A0-4FFE-9A68-457CB54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E95E-C823-4283-A4E2-5FA4EBFF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1544-C8D2-4DC4-82D3-BB68FBE8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483A3-BA67-4EE9-9C5A-DE447FA9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F3D40-7343-4DE2-A447-5B3D15E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B96F-6326-4369-B0D6-6E4A4CC7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5B46-8AB8-43CF-9022-5A4F8624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CD96-34C9-489E-A6EF-1636DB45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F55-C7C6-413C-AEF7-6C214AF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D6CDD-0B6A-4E5A-B56D-2A8113A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0DB5-FA4D-45AB-8089-91A3153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30DF-97B9-4E60-B40D-C9401BF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A839D-A548-4A0A-ACFF-D387C55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C600-B1F8-4376-86F0-2C405D6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5EFF-0A18-4558-B7E4-E3F9D03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21F8-62E7-492B-AC02-2672E2C9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307A1-2DD4-456B-B2B9-7BC958CD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3ABB3-0C75-4136-968D-7BABDCB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2AAB8-1C15-4A5C-A142-879EA068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7674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767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4E4-317D-48FF-B984-0FCE0F0B1DC1}" type="slidenum"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4C2-21B9-4FAD-B5BB-B5807F541E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7B7-5053-4364-8EEF-9A894B63AC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4263-00B6-4FE8-880F-5A7947758B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B83-F548-407D-934F-5709CA2C55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58F-A074-48B0-BCE9-37EB9BAC01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4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CFB-0B82-40AF-925A-6A5769FA9E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180-B7F9-4039-B2EA-FC526073BD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0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BD1-6DC3-4256-9809-60028EA5D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5DA-F738-4646-B802-4BD5BF77F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0FB-A92A-402A-8F48-ABEB7E8590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3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F737-9F4A-4A21-A909-5A10D1767C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8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D6A8-4A22-46D3-A52C-82887B2BA6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47da9">
                  <a:alpha val="45098"/>
                </a:srgbClr>
              </a:gs>
              <a:gs pos="100000">
                <a:srgbClr val="18a3e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1f7faf">
                  <a:alpha val="45098"/>
                </a:srgbClr>
              </a:gs>
              <a:gs pos="100000">
                <a:srgbClr val="209bd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7674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7674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44a7d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cf7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4a7d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44a7d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62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C451-F5FC-4209-A043-F746FDB3CAA4}" type="slidenum">
              <a:rPr b="0" lang="en-US" sz="1200" spc="-1" strike="noStrike">
                <a:solidFill>
                  <a:srgbClr val="066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275-B4DF-4532-A561-3BB689D66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392-BB30-4D9A-ADE3-EA132D78A9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logo_rc_rev_mar09.jpg"/>
          <p:cNvPicPr/>
          <p:nvPr/>
        </p:nvPicPr>
        <p:blipFill>
          <a:blip r:embed="rId3"/>
          <a:stretch/>
        </p:blipFill>
        <p:spPr>
          <a:xfrm>
            <a:off x="3124080" y="6305400"/>
            <a:ext cx="457200" cy="4255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/2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581280" y="6324120"/>
            <a:ext cx="243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756-82C3-411E-90DA-E7100781DD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Title 1" descr=""/>
          <p:cNvPicPr/>
          <p:nvPr/>
        </p:nvPicPr>
        <p:blipFill>
          <a:blip r:embed="rId2"/>
          <a:stretch/>
        </p:blipFill>
        <p:spPr>
          <a:xfrm>
            <a:off x="530280" y="907920"/>
            <a:ext cx="8010360" cy="49690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2" name="Picture 4" descr="RecursiveCreativityFavIcon2.jpg"/>
          <p:cNvPicPr/>
          <p:nvPr/>
        </p:nvPicPr>
        <p:blipFill>
          <a:blip r:embed="rId3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4" name="Picture 6" descr="RecursiveCreativityFavIcon2.jpg"/>
          <p:cNvPicPr/>
          <p:nvPr/>
        </p:nvPicPr>
        <p:blipFill>
          <a:blip r:embed="rId2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  <p:sp>
        <p:nvSpPr>
          <p:cNvPr id="745" name="TextBox 4"/>
          <p:cNvSpPr/>
          <p:nvPr/>
        </p:nvSpPr>
        <p:spPr>
          <a:xfrm>
            <a:off x="380880" y="152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ustomer Summ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99880" y="1638360"/>
            <a:ext cx="8544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3733920" y="6248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ea7"/>
                </a:solidFill>
                <a:latin typeface="Times New Roman"/>
                <a:ea typeface="Times New Roman"/>
              </a:rPr>
              <a:t>Recursive Creativity  LL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48" name="Picture 6" descr="RecursiveCreativityFavIcon2.jpg"/>
          <p:cNvPicPr/>
          <p:nvPr/>
        </p:nvPicPr>
        <p:blipFill>
          <a:blip r:embed="rId2"/>
          <a:stretch/>
        </p:blipFill>
        <p:spPr>
          <a:xfrm>
            <a:off x="8020080" y="6248520"/>
            <a:ext cx="514440" cy="4809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4"/>
          <p:cNvSpPr/>
          <p:nvPr/>
        </p:nvSpPr>
        <p:spPr>
          <a:xfrm>
            <a:off x="380880" y="152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onthly Summ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1290600" y="1805040"/>
            <a:ext cx="6562800" cy="3247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6524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07:54Z</dcterms:created>
  <dc:creator>Michael D. Newby</dc:creator>
  <dc:description/>
  <dc:language>en-US</dc:language>
  <cp:lastModifiedBy>Michael D. Newby</cp:lastModifiedBy>
  <dcterms:modified xsi:type="dcterms:W3CDTF">2009-04-26T02:50:36Z</dcterms:modified>
  <cp:revision>63</cp:revision>
  <dc:subject/>
  <dc:title>fghdsfgh</dc:title>
</cp:coreProperties>
</file>